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E479-9360-440C-BDD4-7FB52B4F9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C17D-1BCA-4C14-A226-3C6B268F2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F98C-3C2C-426D-97BF-9AE6688DB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062C-34E3-43F2-A323-677AE897E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AAF2-B921-4CC0-BE1F-FFFA067D5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AD00-9054-49DD-9AB9-5963BE691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4E8A-0388-46DC-960C-B3A84F3A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4577-B9B2-4C85-B62D-351F14585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C871-67D5-43F7-9D55-F345A1F13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CFFC-D0AC-4F31-AB41-835AE895A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86CC-CD0F-40D8-B84F-BA50DEF4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8611-51E2-47D4-8879-76CC4DF7B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495-5399-47B3-B23D-3C6CAAD0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CFEF-F0F7-4EA9-B00F-13DF10A5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01D-A7D6-4434-A296-C4667E35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4FF-2810-4644-9B23-E39E544A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D73D-0D92-44AE-9E4E-B6DA8BA8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C68B-5C47-470C-AFB9-9DE34BE5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4652-68F2-48F8-966B-CD74A06B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67F1-334A-4227-8D33-3A671E9A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0E5C-AFC8-4E70-AFC8-9C4E211A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86F8-AE39-4285-BC40-7BD89E15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7C00-83CE-465E-88E3-3E17D0D0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3EC-83AA-43A2-BB7C-D6CA13A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891B-4337-40D0-B03D-B944F71E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F36D-A625-4E34-9BE7-DDF220E9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8460-9400-4B9E-B0F0-7594FF16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C582-67B7-445F-B2C6-734C5A24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F74F-E48D-4725-95F6-6CF6343B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981-60FA-4624-AA33-FEE6F35F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66C-B6C6-4C5E-848A-2A02FBE2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205-D293-4C0F-9A69-88858EEE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41E-3205-45B6-80D2-420A6F63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6C2-E6ED-48C6-A764-F91A97E1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8B1-26AB-4369-BFBA-CE39C740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602-DE25-4A3F-8DDA-9BB2345A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4C3B-1545-4C0A-B352-485671313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346B-79E8-488E-B910-B7293A591A3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ended Learning and th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lipped Classroo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rgit De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urse Material: Neue Horizont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cover text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perback workbook/lab 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resources—some via purchased access 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college.cengage.com/languages/german/dollenmayer/neue_horizonte/7e/student_home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 for text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 flashc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 for lab man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 story on 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t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rading Compon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% attendance/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allowed absences; each additional absence reduces attendance/participation grade by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 assignments count as online attend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% ho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ly workbook/lab man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% speaking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al grammar drills, worksheet to ensure comple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writing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ycled as oral presentations for chapter quizz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% quizzes (including fi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rganizational Metho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cour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re to learn like Mood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sebuilder with all lectures, assignments, handout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per chap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on Outline (with links to publisher’s online mater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aking Exercises (assignment sh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cabulary Quiz (10 chapter quiz wo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ing Sample Drop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she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grade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lways knew their expected final 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line Sessions and Ho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ctures on gramm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ed with textbook in language and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he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racticing content of Power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answer keys for self-correc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 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book dialogues with corresponding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al grammar drills with matching workshe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c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line Sessions and Homework Continu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r’s Online Practice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ashcards with a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T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ltural video with workshe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cabulary Qui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n new vocabulary words from each qu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 S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material covered in chap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ycled as oral presentation for each qui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assroom Ses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ttend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and correct homework with answer key or sometimes as class exer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efly summarize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all concepts with textbook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introduce and practice minor topics i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students give oral presentations based on writing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understood that not coming to class meant they had more work outside the classr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took responsibility for self-directed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did not complain about work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given the choice of having quizzes during class time or outside the classroom, they unanimously chose the additional meet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valued time in classr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ere not confused about assign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always knew what to do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teach a blended class with flipped classroom again—effective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course material: online workbook/lab manual, physical textbook and access to an online textboo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uld eliminate lengthy checking of ho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uld use freed-up class time for free-response oral assign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answer key to textbook exercises—”traditional” students ask for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students would like more cla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 for increasing student enroll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ended Learning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i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 of classroom instruction is replaced by online i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classroom session replaced every other we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only come to class two weekends out of the semes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thing in betwe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is online, lab is on campus (Nazareth College Anatomy and Physiolog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been in existence so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known as hybrid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ended Learning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opic at 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Language Association (NeMLA) Conference 2013 at Tuf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ended Learning in the Foreign Language and Literature Classroom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nemla.org/convention/2013/friday_pm.html#track9.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ld Campus: Innovation in Hybrid Online Language Course Development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nemla.org/convention/2013/saturday_am.html#track11.1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mocha Webinar February 27, 20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st Practices for Blended Learning in Language Classroom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lipped Classroom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i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ctures are placed 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has lecture video-recor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captures computer screen with Camtas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uses Power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has students watch course material tutor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study grammar and vocabulary before they come to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time is used for interactive assignments, workbook exercises, and communicativ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combined with blended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lipped Classroom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opic at …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 East Association for Language Learning Technology (NEALLT) Conference 2013 at Corn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ped Classroom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neallt.org/neallt2013/index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LA Conference 2013 at Tuf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ipping the classroom’: Using Technology to Free Vital Class Time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nemla.org/convention/2013/sunday.html#track17.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Graw-Hill Higher Ed Webinar March 28, 20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Flipped Classroom Model to Increase Student Engagement and Result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tructional Choi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cture 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introduces new material in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do textbook exercises/handouts in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do workbook/lab manual exercises or practice assignments as ho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read new material at home, may complete select textbook exercises before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lectures and students practice textbook exercises/handouts in 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do workbook/lab manual exercises or practice assignments as ho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truction Choices Continu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ip the Classro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re introduced to new material in self-study outside the classro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practice new grammatical concepts and vocabulary outside the classro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essor clarifies/answers questions regarding concepts in the classro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spend classroom time on interactive exercises from textbook and workbook/lab manual, on communicative assignments like role play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urse Frame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weeks of instruction with 4 sessions per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of 4 weekly sessions 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introductory German chapters (chapters 6-10 of 15), about 28 textbook pages per chap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pter quizzes every 2 wee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pter topics are German universities, travel, living in the city, environment, Germany in th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concepts include present perfect and simple past tenses, dative and genitive cases, coordinating and subordinating conjunctions, attributive endings, miscellane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commended Progression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Learn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e new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new grammar and vocabulary in structured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ctice grammar and vocabulary in interactive exercises with free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w concepts in unscripted, communicative exerc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00:52:50Z</dcterms:created>
  <dc:creator>Information Technology Services</dc:creator>
  <dc:description/>
  <dc:language>en-US</dc:language>
  <cp:lastModifiedBy>bdeir9</cp:lastModifiedBy>
  <dcterms:modified xsi:type="dcterms:W3CDTF">2014-03-07T19:07:10Z</dcterms:modified>
  <cp:revision>220</cp:revision>
  <dc:subject/>
  <dc:title>Slide 1</dc:title>
</cp:coreProperties>
</file>